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4E7D-4B89-45DB-91A5-7B95DEB2B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2D1C-0D57-47F2-88FA-62C17B84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B88D-D05D-4B5B-8570-0A33D2FEE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F8BD-28D3-4F82-9707-FAC6E2DB2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0582-4B24-4FD4-911C-498632F7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BC96-DF48-4B53-A845-96D580B1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1893-FC21-4246-AE73-0C987177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32EF-2CC8-4314-84E9-A842D0FC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5667-962F-49F3-B287-0B7BA3DE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E3F2-2FD6-4A46-9FFF-DE248284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CE32-C7D0-4570-990E-7611EC65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99FD-C1A7-4061-BB58-5B3953B2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6CD9-BD63-45B6-A5D4-2A47D79C04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ontent Placeholder 1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63128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1" descr=""/>
          <p:cNvPicPr/>
          <p:nvPr/>
        </p:nvPicPr>
        <p:blipFill>
          <a:blip r:embed="rId1"/>
          <a:stretch/>
        </p:blipFill>
        <p:spPr>
          <a:xfrm>
            <a:off x="452520" y="692280"/>
            <a:ext cx="80802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1" descr=""/>
          <p:cNvPicPr/>
          <p:nvPr/>
        </p:nvPicPr>
        <p:blipFill>
          <a:blip r:embed="rId1"/>
          <a:stretch/>
        </p:blipFill>
        <p:spPr>
          <a:xfrm>
            <a:off x="1903320" y="365040"/>
            <a:ext cx="525780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1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2328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1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880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1" descr=""/>
          <p:cNvPicPr/>
          <p:nvPr/>
        </p:nvPicPr>
        <p:blipFill>
          <a:blip r:embed="rId1"/>
          <a:stretch/>
        </p:blipFill>
        <p:spPr>
          <a:xfrm>
            <a:off x="1476360" y="139680"/>
            <a:ext cx="6120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1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6421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1" descr=""/>
          <p:cNvPicPr/>
          <p:nvPr/>
        </p:nvPicPr>
        <p:blipFill>
          <a:blip r:embed="rId1"/>
          <a:stretch/>
        </p:blipFill>
        <p:spPr>
          <a:xfrm>
            <a:off x="2552760" y="189000"/>
            <a:ext cx="3531960" cy="66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09:21:18Z</dcterms:created>
  <dc:creator>lester</dc:creator>
  <dc:description/>
  <dc:language>en-US</dc:language>
  <cp:lastModifiedBy>Ann Louise</cp:lastModifiedBy>
  <dcterms:modified xsi:type="dcterms:W3CDTF">2013-05-05T02:15:33Z</dcterms:modified>
  <cp:revision>19</cp:revision>
  <dc:subject/>
  <dc:title>PowerPoint Presentation</dc:title>
</cp:coreProperties>
</file>